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1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9.png" ContentType="image/png"/>
  <Override PartName="/ppt/media/image33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16D-0CFD-4E13-9604-A57A6953D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5C22-5661-4F81-BE71-C1B3677DD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B6BB-DD8E-4CBD-9298-AE953C50A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691-6FA1-47D8-B336-EFEE4685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542-F59B-4C63-9CAE-29447B2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DFD-A3FF-4039-911C-C37B51BA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FB4-CA57-4BFC-86DF-874E3438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8A3-211C-48A1-8799-F477F6DB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9FA-E1C9-420B-8BB0-3D2C3589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1DE-6B14-46FA-BBB6-CFB9C45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733-CF4C-4B73-82E6-400D667E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753-4EBE-4E19-955D-2E8F5140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152-26A3-4986-B2C1-55A42CB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E61-F64B-4B5A-934D-294AF2C7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1D1-1A08-4EB2-B790-1CF2B13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4D3-B31E-4DFE-B681-42428CC36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0 августа 1941 года (50-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На центральном участке фронта создалась невыгодная для нас обстановка, а на северном фланге мы терпим большие потери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11280" y="907920"/>
            <a:ext cx="8137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войны в город по множеству железнодорожных линий и веток каждый день прибывала не одна тысяча вагонов со всякими грузами. Линии передач несли электрическую энергию со станций, расположенных на Волхове, Свири, в верховьях Невы. Теперь все эти пути были перехвачены врагом. Огромный поток грузов сразу исс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вольствие и боеприпасы стали доставлять по воздуху, но это была капля в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Война, войн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323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79280" y="90792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ли создать новую линию снабжения через Ладожское озеро.Существовал и путь по воде – узкая полоса между вражескими армиями. Прежде этот путь мало использовался.  Ладожское озеро суровое и бурное, судов, пригодных для плаванья по нему было немного. Баржи водили по каналам, в обход озера, но теперь и каналы попали в руки врага. Оставалась Ладога.  Осенью 1941 года начались перевозки через озеро. Потом по нему пролегла знаменитая ледовая трасса – Дорога жизни, которая спасла Ленинград. Но в начале и перевозки по озеру давали ничтожно мало в сравнении с тем, сколько было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23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333360"/>
            <a:ext cx="795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55"/>
          <p:cNvPicPr/>
          <p:nvPr/>
        </p:nvPicPr>
        <p:blipFill>
          <a:blip r:embed="rId3"/>
          <a:stretch/>
        </p:blipFill>
        <p:spPr>
          <a:xfrm>
            <a:off x="179280" y="378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23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307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дневника начальника Генерального штаба сухопутных войск фашистской Германии генерал-полковника Гальд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79280" y="4076640"/>
            <a:ext cx="85694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Лада</cp:lastModifiedBy>
  <dcterms:modified xsi:type="dcterms:W3CDTF">2014-11-06T08:12:28Z</dcterms:modified>
  <cp:revision>36</cp:revision>
  <dc:subject/>
  <dc:title>65-летию Победы посвящается…</dc:title>
</cp:coreProperties>
</file>